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pct" ContentType="image/x-pict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953-0276-4B47-BFE7-DF7C50C9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75D-BFA8-4266-AA3E-1043DE8C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84D-62CF-49F2-BEB3-7342CF06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438-1BF6-4A5D-8BF8-E3A845B6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E3E-C527-4BD2-ACBF-E1340C77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691-E0D5-461A-AF17-65E607DA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1F4-B1D5-4407-8D6B-615F7E0D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FFE-AFEC-4BCA-9793-C421153E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D13-A809-4AA4-B504-DCA23503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CFC-A3DF-4FBD-AC18-8D359A9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4CA-86C3-4821-BC76-BE0D4BA2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C73-BBDF-4D0A-A5F9-2545778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D02B-DCDA-4A3B-9E79-4B5443E6D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3.jpeg"/><Relationship Id="rId3" Type="http://schemas.openxmlformats.org/officeDocument/2006/relationships/image" Target="../media/image29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en.wikipedia.org/wiki/Image:CircusTent0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radley Hand ITC"/>
              </a:rPr>
              <a:t>Cré moi – cré moi p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42105" r="59566" b="0"/>
          <a:stretch/>
        </p:blipFill>
        <p:spPr>
          <a:xfrm>
            <a:off x="2666880" y="2133720"/>
            <a:ext cx="372456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51055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MT"/>
              </a:rPr>
              <a:t>Il est n</a:t>
            </a:r>
            <a:r>
              <a:rPr b="0" lang="en-US" sz="4800" spc="-1" strike="noStrike">
                <a:solidFill>
                  <a:srgbClr val="000000"/>
                </a:solidFill>
                <a:latin typeface="Bodoni MT"/>
                <a:ea typeface="Arial"/>
              </a:rPr>
              <a:t>é</a:t>
            </a:r>
            <a:r>
              <a:rPr b="0" lang="en-US" sz="4800" spc="-1" strike="noStrike">
                <a:solidFill>
                  <a:srgbClr val="000000"/>
                </a:solidFill>
                <a:latin typeface="Bodoni MT"/>
              </a:rPr>
              <a:t>cessaire que vous ecoutiez </a:t>
            </a:r>
            <a:r>
              <a:rPr b="0" lang="en-US" sz="4800" spc="-1" strike="noStrike">
                <a:solidFill>
                  <a:srgbClr val="000000"/>
                </a:solidFill>
                <a:latin typeface="Bodoni MT"/>
                <a:ea typeface="Arial"/>
              </a:rPr>
              <a:t> ma histoi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429160" cy="3548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5135400"/>
            <a:ext cx="2286000" cy="1722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view_from_dufferin_terrace.jpg"/>
          <p:cNvPicPr/>
          <p:nvPr/>
        </p:nvPicPr>
        <p:blipFill>
          <a:blip r:embed="rId3"/>
          <a:stretch/>
        </p:blipFill>
        <p:spPr>
          <a:xfrm>
            <a:off x="6781680" y="0"/>
            <a:ext cx="2362320" cy="160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6520" y="19051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L’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équipe cherche Quebe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1596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102440" y="4191120"/>
            <a:ext cx="2041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window_shopping.jpg"/>
          <p:cNvPicPr/>
          <p:nvPr/>
        </p:nvPicPr>
        <p:blipFill>
          <a:blip r:embed="rId1"/>
          <a:stretch/>
        </p:blipFill>
        <p:spPr>
          <a:xfrm>
            <a:off x="6553080" y="491508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Champ de Mars"/>
          <p:cNvPicPr/>
          <p:nvPr/>
        </p:nvPicPr>
        <p:blipFill>
          <a:blip r:embed="rId2"/>
          <a:srcRect l="24522" t="16364" r="24522" b="16364"/>
          <a:stretch/>
        </p:blipFill>
        <p:spPr>
          <a:xfrm>
            <a:off x="7256520" y="0"/>
            <a:ext cx="1887480" cy="3733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Oratoire St-Joseph"/>
          <p:cNvPicPr/>
          <p:nvPr/>
        </p:nvPicPr>
        <p:blipFill>
          <a:blip r:embed="rId3"/>
          <a:srcRect l="13079" t="8727" r="13079" b="8727"/>
          <a:stretch/>
        </p:blipFill>
        <p:spPr>
          <a:xfrm>
            <a:off x="0" y="3676680"/>
            <a:ext cx="1898640" cy="3181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Champ de Mars"/>
          <p:cNvPicPr/>
          <p:nvPr/>
        </p:nvPicPr>
        <p:blipFill>
          <a:blip r:embed="rId4"/>
          <a:srcRect l="8727" t="12340" r="8727" b="12340"/>
          <a:stretch/>
        </p:blipFill>
        <p:spPr>
          <a:xfrm>
            <a:off x="0" y="0"/>
            <a:ext cx="2114640" cy="1363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905120" y="1371600"/>
            <a:ext cx="5367240" cy="3562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62320" y="21337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572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ngouins nobl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757760" cy="315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The Big Top of Billy Smart's Circus Cambridge 2004."/>
          <p:cNvPicPr/>
          <p:nvPr/>
        </p:nvPicPr>
        <p:blipFill>
          <a:blip r:embed="rId2"/>
          <a:stretch/>
        </p:blipFill>
        <p:spPr>
          <a:xfrm>
            <a:off x="4724280" y="1752480"/>
            <a:ext cx="4419720" cy="3200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38088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équipe a trouvé le cirqu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38280" y="53352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Julie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1800360" cy="2857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Photo: leopard seal"/>
          <p:cNvPicPr/>
          <p:nvPr/>
        </p:nvPicPr>
        <p:blipFill>
          <a:blip r:embed="rId2"/>
          <a:stretch/>
        </p:blipFill>
        <p:spPr>
          <a:xfrm>
            <a:off x="4876920" y="5105520"/>
            <a:ext cx="2171520" cy="149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124080" y="15238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 lu la note que j’ai env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e avec les homar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rot="1204200">
            <a:off x="7009920" y="434304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858000" y="3352680"/>
            <a:ext cx="1143000" cy="760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 flipH="1" rot="2106000">
            <a:off x="1447200" y="3428640"/>
            <a:ext cx="1447560" cy="963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43200" y="35053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Si tu restes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  <a:ea typeface="Arial"/>
              </a:rPr>
              <a:t>au cirque, tu ne mangeras jamais les homards frais encore! Aussi, je vous adore et je suis si triste et isolé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 rot="21129000">
            <a:off x="4876920" y="2743200"/>
            <a:ext cx="1143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05120" y="838080"/>
            <a:ext cx="5410080" cy="5639040"/>
          </a:xfrm>
          <a:custGeom>
            <a:avLst/>
            <a:gdLst>
              <a:gd name="textAreaLeft" fmla="*/ 1271520 w 5410080"/>
              <a:gd name="textAreaRight" fmla="*/ 4134960 w 5410080"/>
              <a:gd name="textAreaTop" fmla="*/ 662760 h 5639040"/>
              <a:gd name="textAreaBottom" fmla="*/ 3537000 h 5639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219320"/>
            <a:ext cx="5410080" cy="5638680"/>
          </a:xfrm>
          <a:custGeom>
            <a:avLst/>
            <a:gdLst>
              <a:gd name="textAreaLeft" fmla="*/ 1271520 w 5410080"/>
              <a:gd name="textAreaRight" fmla="*/ 4134960 w 5410080"/>
              <a:gd name="textAreaTop" fmla="*/ 662760 h 5638680"/>
              <a:gd name="textAreaBottom" fmla="*/ 3537000 h 563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676520" y="1219320"/>
            <a:ext cx="5410440" cy="5638680"/>
          </a:xfrm>
          <a:custGeom>
            <a:avLst/>
            <a:gdLst>
              <a:gd name="textAreaLeft" fmla="*/ 1271520 w 5410440"/>
              <a:gd name="textAreaRight" fmla="*/ 4135320 w 5410440"/>
              <a:gd name="textAreaTop" fmla="*/ 662760 h 5638680"/>
              <a:gd name="textAreaBottom" fmla="*/ 3537000 h 563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Two sea lions at seashore,  Australia photo"/>
          <p:cNvPicPr/>
          <p:nvPr/>
        </p:nvPicPr>
        <p:blipFill>
          <a:blip r:embed="rId1"/>
          <a:stretch/>
        </p:blipFill>
        <p:spPr>
          <a:xfrm>
            <a:off x="2895480" y="15238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43000" y="7621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stellar"/>
              </a:rPr>
              <a:t>ELLE EST RETOURN</a:t>
            </a:r>
            <a:r>
              <a:rPr b="1" lang="en-US" sz="4800" spc="-1" strike="noStrike">
                <a:solidFill>
                  <a:srgbClr val="000000"/>
                </a:solidFill>
                <a:latin typeface="Castellar"/>
                <a:ea typeface="Arial"/>
              </a:rPr>
              <a:t>É</a:t>
            </a:r>
            <a:r>
              <a:rPr b="1" lang="en-US" sz="4800" spc="-1" strike="noStrike">
                <a:solidFill>
                  <a:srgbClr val="000000"/>
                </a:solidFill>
                <a:latin typeface="Castellar"/>
              </a:rPr>
              <a:t>E!</a:t>
            </a:r>
            <a:r>
              <a:rPr b="0" lang="en-US" sz="48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543800" cy="4648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Sea lion waving fin at beach photo"/>
          <p:cNvPicPr/>
          <p:nvPr/>
        </p:nvPicPr>
        <p:blipFill>
          <a:blip r:embed="rId2"/>
          <a:srcRect l="0" t="19201" r="0" b="19201"/>
          <a:stretch/>
        </p:blipFill>
        <p:spPr>
          <a:xfrm>
            <a:off x="2057400" y="4511520"/>
            <a:ext cx="2533680" cy="2346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Sea lion waving fin at beach photo"/>
          <p:cNvPicPr/>
          <p:nvPr/>
        </p:nvPicPr>
        <p:blipFill>
          <a:blip r:embed="rId3"/>
          <a:srcRect l="0" t="19201" r="0" b="19201"/>
          <a:stretch/>
        </p:blipFill>
        <p:spPr>
          <a:xfrm>
            <a:off x="4572000" y="4511520"/>
            <a:ext cx="2533680" cy="2346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62520" y="838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9966"/>
                </a:solidFill>
                <a:latin typeface="Edwardian Script ITC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42105" r="59566" b="0"/>
          <a:stretch/>
        </p:blipFill>
        <p:spPr>
          <a:xfrm>
            <a:off x="4648320" y="2416320"/>
            <a:ext cx="4038480" cy="2892240"/>
          </a:xfrm>
          <a:prstGeom prst="rect">
            <a:avLst/>
          </a:prstGeom>
          <a:ln w="0">
            <a:noFill/>
          </a:ln>
        </p:spPr>
      </p:pic>
      <p:pic>
        <p:nvPicPr>
          <p:cNvPr id="46" name="Paris:Users:toni:Music:iTunes:iTunes Music:Michel Rivard:Michel Rivard:02 La complainte du phoque en alaska 1.m4a" descr=""/>
          <p:cNvPicPr/>
          <p:nvPr/>
        </p:nvPicPr>
        <p:blipFill>
          <a:blip r:embed="rId2"/>
          <a:stretch/>
        </p:blipFill>
        <p:spPr>
          <a:xfrm>
            <a:off x="2019240" y="3405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4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Image:Alaska locator.png"/>
          <p:cNvPicPr/>
          <p:nvPr/>
        </p:nvPicPr>
        <p:blipFill>
          <a:blip r:embed="rId1"/>
          <a:stretch/>
        </p:blipFill>
        <p:spPr>
          <a:xfrm>
            <a:off x="2286000" y="1523880"/>
            <a:ext cx="4257720" cy="3667320"/>
          </a:xfrm>
          <a:prstGeom prst="rect">
            <a:avLst/>
          </a:prstGeom>
          <a:ln w="0">
            <a:noFill/>
          </a:ln>
        </p:spPr>
      </p:pic>
      <p:sp>
        <p:nvSpPr>
          <p:cNvPr id="48" name="PubTriangle"/>
          <p:cNvSpPr/>
          <p:nvPr/>
        </p:nvSpPr>
        <p:spPr>
          <a:xfrm rot="16980000">
            <a:off x="2324160" y="723600"/>
            <a:ext cx="1219320" cy="1143000"/>
          </a:xfrm>
          <a:solidFill>
            <a:srgbClr val="d8ebb3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4572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ve en Alaska avec ma belle, belle blonde, Jul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257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us avons recont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é en 2001…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Photo: sleeping Weddell seal"/>
          <p:cNvPicPr/>
          <p:nvPr/>
        </p:nvPicPr>
        <p:blipFill>
          <a:blip r:embed="rId2"/>
          <a:stretch/>
        </p:blipFill>
        <p:spPr>
          <a:xfrm>
            <a:off x="7372440" y="1447920"/>
            <a:ext cx="17715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1120" y="2514600"/>
            <a:ext cx="86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vies étaient bien heureuses, n’est-ce pa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Science Photo - Harp seals"/>
          <p:cNvPicPr/>
          <p:nvPr/>
        </p:nvPicPr>
        <p:blipFill>
          <a:blip r:embed="rId1"/>
          <a:stretch/>
        </p:blipFill>
        <p:spPr>
          <a:xfrm>
            <a:off x="0" y="0"/>
            <a:ext cx="3333600" cy="2152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Two harp seals calling photo"/>
          <p:cNvPicPr/>
          <p:nvPr/>
        </p:nvPicPr>
        <p:blipFill>
          <a:blip r:embed="rId2"/>
          <a:stretch/>
        </p:blipFill>
        <p:spPr>
          <a:xfrm>
            <a:off x="2438280" y="3886200"/>
            <a:ext cx="3810240" cy="254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Harp seal mother with baby photo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2523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43200" y="4114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1371600" cy="914400"/>
          </a:xfrm>
          <a:prstGeom prst="wedgeEllipseCallout">
            <a:avLst>
              <a:gd name="adj1" fmla="val -43750"/>
              <a:gd name="adj2" fmla="val 10520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rot="277800">
            <a:off x="3200400" y="3200040"/>
            <a:ext cx="2041560" cy="851040"/>
          </a:xfrm>
          <a:prstGeom prst="wedgeEllipseCallout">
            <a:avLst>
              <a:gd name="adj1" fmla="val -45324"/>
              <a:gd name="adj2" fmla="val 11443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oooOoo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8343" t="0" r="0" b="28800"/>
          <a:stretch/>
        </p:blipFill>
        <p:spPr>
          <a:xfrm>
            <a:off x="4648320" y="1523880"/>
            <a:ext cx="1984320" cy="3391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38343" b="28800"/>
          <a:stretch/>
        </p:blipFill>
        <p:spPr>
          <a:xfrm>
            <a:off x="2720880" y="1523880"/>
            <a:ext cx="1984320" cy="339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86200" y="2362320"/>
            <a:ext cx="457200" cy="380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974800">
            <a:off x="5105160" y="2438280"/>
            <a:ext cx="609480" cy="457200"/>
          </a:xfrm>
          <a:prstGeom prst="irregularSeal2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66680" y="838080"/>
            <a:ext cx="2743200" cy="2286000"/>
          </a:xfrm>
          <a:prstGeom prst="cloudCallout">
            <a:avLst>
              <a:gd name="adj1" fmla="val -46180"/>
              <a:gd name="adj2" fmla="val 2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914400"/>
            <a:ext cx="2819520" cy="2286000"/>
          </a:xfrm>
          <a:prstGeom prst="cloudCallout">
            <a:avLst>
              <a:gd name="adj1" fmla="val -46282"/>
              <a:gd name="adj2" fmla="val 26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The Big Top of Billy Smart's Circus Cambridge 2004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1295280"/>
            <a:ext cx="1638360" cy="12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Science Photo - Harp seals"/>
          <p:cNvPicPr/>
          <p:nvPr/>
        </p:nvPicPr>
        <p:blipFill>
          <a:blip r:embed="rId5"/>
          <a:stretch/>
        </p:blipFill>
        <p:spPr>
          <a:xfrm>
            <a:off x="6248520" y="1447920"/>
            <a:ext cx="1809720" cy="116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05320" y="5335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N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hoto: sleeping Weddell seal"/>
          <p:cNvPicPr/>
          <p:nvPr/>
        </p:nvPicPr>
        <p:blipFill>
          <a:blip r:embed="rId2"/>
          <a:stretch/>
        </p:blipFill>
        <p:spPr>
          <a:xfrm>
            <a:off x="457200" y="457200"/>
            <a:ext cx="3219480" cy="22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1323000">
            <a:off x="7543440" y="1218960"/>
            <a:ext cx="1295280" cy="121896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43280 h 1218960"/>
              <a:gd name="textAreaBottom" fmla="*/ 764640 h 121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7798800">
            <a:off x="6438600" y="4381200"/>
            <a:ext cx="1295280" cy="121896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43280 h 1218960"/>
              <a:gd name="textAreaBottom" fmla="*/ 764640 h 121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013600">
            <a:off x="228600" y="304560"/>
            <a:ext cx="698400" cy="615960"/>
          </a:xfrm>
          <a:custGeom>
            <a:avLst/>
            <a:gdLst>
              <a:gd name="textAreaLeft" fmla="*/ 164160 w 698400"/>
              <a:gd name="textAreaRight" fmla="*/ 533880 w 698400"/>
              <a:gd name="textAreaTop" fmla="*/ 72360 h 615960"/>
              <a:gd name="textAreaBottom" fmla="*/ 386280 h 61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29000" y="2438280"/>
            <a:ext cx="5362560" cy="4221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14214600">
            <a:off x="2916000" y="2646000"/>
            <a:ext cx="1738440" cy="560160"/>
          </a:xfrm>
          <a:prstGeom prst="leftArrow">
            <a:avLst>
              <a:gd name="adj1" fmla="val 50000"/>
              <a:gd name="adj2" fmla="val 77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Image:Alaska locator.png"/>
          <p:cNvPicPr/>
          <p:nvPr/>
        </p:nvPicPr>
        <p:blipFill>
          <a:blip r:embed="rId4"/>
          <a:stretch/>
        </p:blipFill>
        <p:spPr>
          <a:xfrm>
            <a:off x="0" y="4419720"/>
            <a:ext cx="2514600" cy="216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28800" y="4038480"/>
            <a:ext cx="228600" cy="1600200"/>
          </a:xfrm>
          <a:prstGeom prst="downArrow">
            <a:avLst>
              <a:gd name="adj1" fmla="val 50000"/>
              <a:gd name="adj2" fmla="val 17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38088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lie est partie, et elle a voya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é à un cirq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505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 Quebe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Photo: leopard seal"/>
          <p:cNvPicPr/>
          <p:nvPr/>
        </p:nvPicPr>
        <p:blipFill>
          <a:blip r:embed="rId2"/>
          <a:stretch/>
        </p:blipFill>
        <p:spPr>
          <a:xfrm>
            <a:off x="457200" y="2666880"/>
            <a:ext cx="4000680" cy="275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05320" y="228600"/>
            <a:ext cx="5638680" cy="3886200"/>
          </a:xfrm>
          <a:prstGeom prst="cloudCallout">
            <a:avLst>
              <a:gd name="adj1" fmla="val -43583"/>
              <a:gd name="adj2" fmla="val 19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Sa blonde est partie …mais si je mendiais avec elle, elle ne se retournerait pas! Elle est heureuse, mais ça fait pu rire personne quand les enfants sont gra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17988600">
            <a:off x="-785520" y="937800"/>
            <a:ext cx="5708520" cy="520380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&quot;A Captive Seal Yawning&quot; Photographic Print"/>
          <p:cNvPicPr/>
          <p:nvPr/>
        </p:nvPicPr>
        <p:blipFill>
          <a:blip r:embed="rId1"/>
          <a:srcRect l="15094" t="11294" r="15094" b="11294"/>
          <a:stretch/>
        </p:blipFill>
        <p:spPr>
          <a:xfrm>
            <a:off x="990720" y="2057400"/>
            <a:ext cx="2290680" cy="3395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62520" y="0"/>
            <a:ext cx="4419360" cy="2438280"/>
          </a:xfrm>
          <a:prstGeom prst="wedgeEllipseCallout">
            <a:avLst>
              <a:gd name="adj1" fmla="val -89333"/>
              <a:gd name="adj2" fmla="val 5540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Light"/>
              </a:rPr>
              <a:t>Est-il juste que je pleure?!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3276720"/>
            <a:ext cx="5334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nalement, j’ai 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Arial"/>
              </a:rPr>
              <a:t>écidé: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Arial"/>
              </a:rPr>
              <a:t>jusqu’à ce que Julie soit à côté de moi, il est essentiel que je n’arrete jamais lutter pour son retour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3340200">
            <a:off x="1790280" y="952200"/>
            <a:ext cx="5639040" cy="67816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14400" t="0" r="0" b="27490"/>
          <a:stretch/>
        </p:blipFill>
        <p:spPr>
          <a:xfrm>
            <a:off x="2514600" y="3124080"/>
            <a:ext cx="407664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3000" y="533520"/>
            <a:ext cx="6477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 notif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Pingouin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cupération Association, et j’ai envoyé une équi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Quebec (avec les homards, parce que Julie adore les homard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82880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8:31:11Z</dcterms:created>
  <dc:creator>Student</dc:creator>
  <dc:description/>
  <dc:language>en-US</dc:language>
  <cp:lastModifiedBy>Toni Theisen</cp:lastModifiedBy>
  <dcterms:modified xsi:type="dcterms:W3CDTF">2007-01-17T00:31:36Z</dcterms:modified>
  <cp:revision>16</cp:revision>
  <dc:subject/>
  <dc:title>Slide 1</dc:title>
</cp:coreProperties>
</file>